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639ED-07D4-42A5-A9EC-ABCC249C3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EAF4-0874-4291-A144-6AEC2614C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C4006-08F6-4810-8E87-B0E755C61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36E39-37EB-4D5C-89FD-8C0821AA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CD5CC-EAC2-4DA4-AE0A-C8EE67DB1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C1FE5-40B8-4527-B520-1CE5AAF0B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AF3A6-6A19-45F3-BD23-0597A41DC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D9B11-6C76-4D59-8778-ABE2804E1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0FB8A-FF44-43C1-B6FA-62A48C239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506D4-10D6-4303-BC55-863EB9EB0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BF0A8-9A94-467F-AF25-8A21D1C51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0DEDA-6AAD-4C69-B5A5-E0936907D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BD00-9754-4046-A8EA-BA89E799A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6057-87DA-48DC-ABA0-487B4B786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65289-20B9-4859-BC1C-BC5089095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736DE-C9B7-4C98-86BB-5CE733AEF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190C0-15C9-43B8-8B1E-2138CCED3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C6B3C-0E63-4254-BD91-796671EF30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ABE1D-72FC-4F7B-8375-B07E51C5F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6CE5F-B88E-4E16-81C7-B3589EF3F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DEED7-5F7B-44FB-829B-CAEA2C130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4AD12-00C0-458A-9DF4-D3BF33CD1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D541B-047A-4096-BBCC-B00EC992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3D63A-B2EB-453F-B66D-B1A63B48F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F549C-8647-44BF-94F0-80C45A96E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7A42E-74F7-4025-9CC3-2A01BD83B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2E4D9-1488-48E5-85E2-BFFB52553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2A3D6-793C-48AA-86E1-96B5D9F51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4AEF5-ABDC-4CBE-A90D-CE231C719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7594AC-4788-4292-808A-DC90817CF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CA2F74-E543-4440-9388-9997800FA6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970DD-46D4-47E6-B838-59923B2B0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8CA8B-2570-4161-9835-82FF954F9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EF45-3250-477D-B39C-B885E0A4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CD335-987E-4D0D-B86A-3F3B1DCA9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618D7-F450-4181-A717-4C60D706B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6BBA0-4579-426B-A472-1A3BF85F67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A101E-7161-488D-9EF5-83F0C3DA3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0C6B8-0ADE-4228-BE39-A175F8845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3A313-F574-40F2-BAEF-3AB30EE0A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CCE68-211D-41C8-94EB-5628A3444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22604-77EA-4FA9-9257-FCAC53FC3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DF580-E660-4EF0-8813-521A6D2BA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FF9959-C61C-49A5-95DA-4AD759AF5D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8D247-09E8-48FA-967E-5085B86E9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4B212-879A-46CC-A9D5-E17A2EEA6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75843-A8CA-4700-9B66-E9A865262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E718F-B814-4CEE-9530-BE91E913E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381AA-F343-4EBB-840B-985B4893B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77C77-FA55-4C7C-B288-D1A26135D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2DC7C-88F7-4AF6-BFD3-27B6D52A6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EF007-CE84-436D-9BC9-B0C8DD7D3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CEE0A-0B81-4DBF-BD72-071EF29AF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199DB-CB51-4601-8D13-10EA71FD9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E5BE7-E92B-4EF6-95DD-9FD89B8D46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48B9C-7723-4923-BAE1-EB8666171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246F6-A591-4A57-B12F-4BC198F1A6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DD0D44F-6B39-484D-86D5-4AA5599CDC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B6EBC3-6987-4A39-BC39-DD319449DC4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61DC66-037B-45FC-BDEC-DAE6A958E3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27AE0B-DDBB-4C33-B295-ED70D198113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16C715-70CE-401D-BD03-CB939DBCD2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381D14-94B5-465E-8DA3-A2B5E9C3FE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56B3C2-092B-4774-9515-CACE1BF352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03DEF9-F55B-4F29-B0AA-99E95F4AA8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492EA1-3C23-4DDE-AEC5-A91E84367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926E-4289-4B23-8675-33BC3A11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1FF39E-E095-4A1F-A7B2-804DCAA9FD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C97BF69-4BC3-416C-8120-C549BCEDFE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94DC4C-AF09-4F0A-8F4B-5C9A487989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917B-8E82-4A8A-9DFE-FDDABC02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23C8-8BF8-4BBE-901F-1853D4795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92B2E9F8-BBDA-493F-983E-9FA2B2C23CC4}"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9B84948E-2B27-4A5A-9A2A-38D7685E76F0}"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BF63BA34-1A79-4D8B-99DA-C260C089C9C3}"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36631146-0476-4271-A0C8-F9639AB2E4C1}"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C63139AC-E932-4682-B2BD-8134823A7C24}"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1D77F2B4-A9C9-4DB0-A942-F784404975B0}"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67" descr=""/>
          <p:cNvPicPr/>
          <p:nvPr/>
        </p:nvPicPr>
        <p:blipFill>
          <a:blip r:embed="rId1"/>
          <a:stretch/>
        </p:blipFill>
        <p:spPr>
          <a:xfrm>
            <a:off x="212760" y="268200"/>
            <a:ext cx="8480520" cy="884160"/>
          </a:xfrm>
          <a:prstGeom prst="rect">
            <a:avLst/>
          </a:prstGeom>
          <a:ln w="0">
            <a:noFill/>
          </a:ln>
        </p:spPr>
      </p:pic>
      <p:graphicFrame>
        <p:nvGraphicFramePr>
          <p:cNvPr id="291"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755640"/>
          </a:xfrm>
          <a:prstGeom prst="rect">
            <a:avLst/>
          </a:prstGeom>
          <a:ln w="0">
            <a:noFill/>
          </a:ln>
        </p:spPr>
      </p:pic>
      <p:sp>
        <p:nvSpPr>
          <p:cNvPr id="301"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Inquiry</a:t>
            </a:r>
            <a:endParaRPr b="0" lang="en-US" sz="2400" spc="-1" strike="noStrike">
              <a:solidFill>
                <a:srgbClr val="000000"/>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Measurement-The metric system is use by all Scientists</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cientific Method- There is a format of which scientist write a formal lab report</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 </a:t>
            </a:r>
            <a:r>
              <a:rPr b="0" lang="en-US" sz="2500" spc="-1" strike="noStrike">
                <a:solidFill>
                  <a:srgbClr val="6c6c6c"/>
                </a:solidFill>
                <a:latin typeface="Trebuchet MS"/>
              </a:rPr>
              <a:t>Lab Safety- Special rules apply when in the science laboratory.  These must be followed to assure the safety of all!</a:t>
            </a:r>
            <a:endParaRPr b="0" lang="en-US" sz="25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08"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12760" y="317520"/>
            <a:ext cx="7493040" cy="834840"/>
          </a:xfrm>
          <a:prstGeom prst="rect">
            <a:avLst/>
          </a:prstGeom>
          <a:ln w="0">
            <a:noFill/>
          </a:ln>
        </p:spPr>
      </p:pic>
      <p:sp>
        <p:nvSpPr>
          <p:cNvPr id="31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212760" y="317520"/>
            <a:ext cx="7493040" cy="1150920"/>
          </a:xfrm>
          <a:prstGeom prst="rect">
            <a:avLst/>
          </a:prstGeom>
          <a:ln w="0">
            <a:noFill/>
          </a:ln>
        </p:spPr>
      </p:pic>
      <p:sp>
        <p:nvSpPr>
          <p:cNvPr id="31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s. Kerner is the 7th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er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115092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103320"/>
            <a:ext cx="7493040" cy="725400"/>
          </a:xfrm>
          <a:prstGeom prst="rect">
            <a:avLst/>
          </a:prstGeom>
          <a:ln w="0">
            <a:noFill/>
          </a:ln>
        </p:spPr>
      </p:pic>
      <p:sp>
        <p:nvSpPr>
          <p:cNvPr id="269" name=""/>
          <p:cNvSpPr txBox="1"/>
          <p:nvPr/>
        </p:nvSpPr>
        <p:spPr>
          <a:xfrm>
            <a:off x="457200" y="837720"/>
            <a:ext cx="7616880" cy="58676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arth Science</a:t>
            </a:r>
            <a:endParaRPr b="0" lang="en-US" sz="22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ather and Atmosphere</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Compare the composition, properties and structure of Earth’s atmosphere to include: mixtures of gases and differences in temperature and pressure within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how the cycling of water in and out of the atmosphere and atmospheric conditions relate to the weather patterns on earth.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relationship between the movement of air masses, high and low pressure systems, and frontal boundaries to storms (including thunderstorms, hurricanes, and tornadoes) and other weather conditions that may result.</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dict weather conditions and patterns based on information obtained from: weather data collected from direct observations and measurement (wind speed and direction, air temperature, humidity and air pressure); weather maps, satellites and radar; cloud shapes and types and associated elevation. </a:t>
            </a:r>
            <a:br>
              <a:rPr sz="2000"/>
            </a:br>
            <a:r>
              <a:rPr b="1" lang="en-US" sz="2000" spc="-1" strike="noStrike">
                <a:solidFill>
                  <a:srgbClr val="6c6c6c"/>
                </a:solidFill>
                <a:latin typeface="Trebuchet MS"/>
              </a:rPr>
              <a:t> </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133200" y="182520"/>
            <a:ext cx="7493040" cy="725400"/>
          </a:xfrm>
          <a:prstGeom prst="rect">
            <a:avLst/>
          </a:prstGeom>
          <a:ln w="0">
            <a:noFill/>
          </a:ln>
        </p:spPr>
      </p:pic>
      <p:sp>
        <p:nvSpPr>
          <p:cNvPr id="271" name=""/>
          <p:cNvSpPr txBox="1"/>
          <p:nvPr/>
        </p:nvSpPr>
        <p:spPr>
          <a:xfrm>
            <a:off x="457200" y="990360"/>
            <a:ext cx="7238880" cy="4846680"/>
          </a:xfrm>
          <a:prstGeom prst="rect">
            <a:avLst/>
          </a:prstGeom>
          <a:noFill/>
          <a:ln w="0">
            <a:noFill/>
          </a:ln>
        </p:spPr>
        <p:txBody>
          <a:bodyPr anchor="t">
            <a:normAutofit fontScale="82000"/>
          </a:bodyPr>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fe Science</a:t>
            </a:r>
            <a:endParaRPr b="0" lang="en-US" sz="2600" spc="-1" strike="noStrike">
              <a:solidFill>
                <a:srgbClr val="000000"/>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ells, Cell Structure, Cell Functions,  Human Body System and Function</a:t>
            </a:r>
            <a:endParaRPr b="0" lang="en-US" sz="23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life functions of single-celled organisms that carry out all of the basic functions of life including: Euglena, Amoeba, Paramecium, Volvox</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functions of plant and animal cells, including major organelles (cell membrane, cell wall, nucleus, chloroplasts, mitochondria, and vacuoles).</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Summarize the hierarchical organization of multi-cellular organisms from cells to tissues to organs to systems to organisms.</a:t>
            </a:r>
            <a:endParaRPr b="0" lang="en-US" sz="2400" spc="-1" strike="noStrike">
              <a:solidFill>
                <a:srgbClr val="6c6c6c"/>
              </a:solidFill>
              <a:latin typeface="Trebuchet MS"/>
            </a:endParaRPr>
          </a:p>
          <a:p>
            <a:pPr marL="22356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endParaRPr b="0" lang="en-US" sz="2600" spc="-1" strike="noStrike">
              <a:solidFill>
                <a:srgbClr val="000000"/>
              </a:solidFill>
              <a:latin typeface="Trebuchet MS"/>
            </a:endParaRPr>
          </a:p>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6840" y="1609560"/>
            <a:ext cx="7620120" cy="5019840"/>
          </a:xfrm>
          <a:prstGeom prst="rect">
            <a:avLst/>
          </a:prstGeom>
          <a:noFill/>
          <a:ln w="0">
            <a:noFill/>
          </a:ln>
        </p:spPr>
        <p:txBody>
          <a:bodyPr anchor="t">
            <a:normAutofit/>
          </a:bodyPr>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fe Science</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mmarize the general functions of the major systems of the human body (digestion, respiratory, reproduction, circulation, and excretion) and ways that these systems interact with each other to sustain life.</a:t>
            </a:r>
            <a:endParaRPr b="0" lang="en-US" sz="2000" spc="-1" strike="noStrike">
              <a:solidFill>
                <a:srgbClr val="6c6c6c"/>
              </a:solidFill>
              <a:latin typeface="Trebuchet MS"/>
            </a:endParaRPr>
          </a:p>
          <a:p>
            <a:pPr lvl="1" marL="56664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netics, Reproduction, Disorders</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why offspring that result from sexual reproduction (fertilization and meiosis) have greater variation than offspring that result from asexual reproduction (budding and mito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fer patterns of heredity using information from Punnett squares and pedigree analy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impact of the environment and lifestyle choices on biological inheritance (to include common genetic diseases) and survival.</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hysical Science</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peed and Motion</a:t>
            </a:r>
            <a:endParaRPr b="0" lang="en-US" sz="25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the motion of an object by can be described by its position, direction of motion, and speed with respect to some other object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the effects of balanced and unbalanced forces acting on an object (including friction, gravity and magnets).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llustrate the motion of an object using a graph to show a change in position over a period of time</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pret distance versus time graphs for constant speed and variable motion.</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52056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274680"/>
            <a:ext cx="7493040" cy="725400"/>
          </a:xfrm>
          <a:prstGeom prst="rect">
            <a:avLst/>
          </a:prstGeom>
          <a:ln w="0">
            <a:noFill/>
          </a:ln>
        </p:spPr>
      </p:pic>
      <p:sp>
        <p:nvSpPr>
          <p:cNvPr id="277" name=""/>
          <p:cNvSpPr txBox="1"/>
          <p:nvPr/>
        </p:nvSpPr>
        <p:spPr>
          <a:xfrm>
            <a:off x="457200" y="1066680"/>
            <a:ext cx="7238880" cy="54864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Kinetic and Potential Energ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kinetic and potential energy contribute to the mechanical energy of an ob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energy can be transformed from one form to another (specifically potential energy and kinetic energy) using a model or diagram of a moving object (roller coaster, pendulum, or cars on ramps as examples).</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cognize that energy can be transferred from one system to another when two objects push or pull on each other over a distance (work) and electrical circuits require a complete loop through which an electrical current can pass.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Explain how simple machines such as inclined planes, pulleys, levers and wheel and axels are used to create mechanical advantage and increase efficiency.</a:t>
            </a:r>
            <a:endParaRPr b="0" lang="en-US" sz="25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Rectangle 2"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LCS Staff</cp:lastModifiedBy>
  <dcterms:modified xsi:type="dcterms:W3CDTF">2013-08-23T13:20:17Z</dcterms:modified>
  <cp:revision>98</cp:revision>
  <dc:subject/>
  <dc:title>Biology  Mr. Loveday</dc:title>
</cp:coreProperties>
</file>